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EBD-D751-4A5D-9876-F90394D6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22C-B370-482A-AD34-4A54B38F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45AA3-B715-4153-A87E-99B0F0B9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704CAF-7B23-48A3-8525-30E1E18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56DB9F-0FB6-4B48-8E5E-E21DEA23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E9BF6-C996-4C8E-9E7B-51C6BF0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719A06-B4B4-4B61-87E6-4164D0F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2B725-E97D-4952-8626-7BF7AC3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D972C-5783-4862-A100-33A09B6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EB124-C9E8-4D9E-B983-0B55A9E4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52F026-7DCF-4010-8C27-3F59AA11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AC227D-5454-46D3-ACC5-A812CD85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92B-ABEA-46C6-B049-4737677C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DEA63-06B8-42EC-88B6-0D13903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D5301-A260-4148-8F60-4F69FC7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7115D0-C1EC-4637-BB20-4094CD4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A6A5BB-C609-4CBF-9E8E-B45DEEE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7AD4AF-234E-409E-A9B8-BA40C26F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91FF58-D467-49D1-895E-7346C0E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D35AC0-A2EF-42C7-901D-0414B5B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8AA13-0DA1-4E7C-9A50-A65C96A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15CF6D-DFBB-4F15-B2C6-3A971000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4F24B-536C-4CCE-A803-17A5DDB5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FE6-D99D-4F84-89D6-E5750C30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EA493C-F02A-41FE-B697-BE15FCA7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7242C-516B-43BC-8A91-1579B8A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6DC96-A269-4985-86AD-1985D23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07C45-1A98-437D-852F-F6551CF6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2A37-E020-4175-A4A4-29AD66A3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DE04-D4AE-4F08-B7B0-F39493AE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A0210-A28B-4A50-8984-DCB1515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67BA-517A-4D3D-A76B-05AD03D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09B09-A865-43E2-A370-5620B9F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511DE-0C2D-4644-ACCA-FB09CD9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721CC-17B3-4221-AACF-268E9DE5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19496-1B55-4A8F-B137-BAF4EC0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1CBF5-87BD-4B4F-BF84-DAB54D8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EF8E-82E5-45DA-83F2-D910C2B7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9E95F-CE6B-4B39-8BEE-DB6CCEE4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3D79F-FC3E-4E50-BA7B-EDDB6D3F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FFD97-03A2-4AC5-8518-4CDC5465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CBCC3-6C5F-4EF7-93EC-6786A27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2C4E1-5768-4BCF-AE4E-1C14A8E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0F93D-B2D9-4D03-B82B-68966832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D39EC-73CE-47B0-9152-04DAE14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594A-7997-4661-AA75-D442A00A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1624C-CD60-430A-BC15-87CCBF9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A0563-053A-4EB9-9A84-CFB86AF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8F89A-AC1C-42D0-A0B1-4776C4DC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004E8-D2AF-4080-BBCF-45B042E0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136A0-82F2-400D-8896-20D3D46B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6991-4BBA-4412-90E1-AAA1950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B6CC3-D39F-4A4C-B7B2-59BE512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5BC1-42AE-4F4D-A400-7AA8025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068A-385B-425B-A56F-AA382E7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1FF1E-DF41-4011-8613-6E0577F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766-7FF3-4506-BC8D-F5C3E57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8BFF4-F112-4B0E-9637-BF0F4A6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03CB6-FB4C-4C9D-AEA2-64308C6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A0B72-EDCA-4A9F-AE39-260CA03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81CBD-87AD-4D48-8F9A-ADC8F8E8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88C1-6FBC-4EA4-96EA-FC0046D3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F3C97-8FAF-4747-835D-07F1F48B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5CDF9-D647-4C20-99E6-8794D24A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49F3D-2699-41FC-8F9D-D89679D3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06BD9-9615-48F1-946E-2C77D655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5B2B1-6D89-4DEF-87C7-17505A25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E8F-53FF-454B-8242-057294E4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F4669-ADB7-473A-BCAE-F5F3C9AF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EDC80-C815-40B4-88D6-DBBE375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FB1A6-6192-4F9C-8FE2-3905F98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231A6-C38B-4358-B571-A1AF0EE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AF79A-21E9-47A8-9727-2D47207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877D8-A979-401F-BA7E-A36BA389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228B5-883F-4BDC-BBF4-6664788D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AAD9A-4552-483D-8BC5-7F6558C8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96A5D-2505-4966-B07D-7E4F8E78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B4FA5-6D6B-44F2-87CC-882332C3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3A5-FD46-4431-A246-3ADB469C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36BDB-4E25-4DD8-BC51-24E4C54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452A6-879D-4EC0-859F-0F9C5DC9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9CD66-6353-465F-B800-69A6817E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DA67C-260A-49B2-82AC-2BFF7213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408D7-3DCB-4BE3-BB7C-8F65FFE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22531-0147-4155-A597-84D53FE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22A87-1221-4507-9AE8-13991D9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0D263-F3A9-4C80-8439-69951427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6DF93-E161-4665-9F54-7692729C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D8A70-FB2E-44ED-BCC0-A69FDD18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5F5-2A35-4394-8DED-F1C61D55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DC5E0-1D4B-434A-8313-1E81F6C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9D046-BE6C-4D54-B775-8C1B3F64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56BC1-4493-4E8F-8AEC-6C4B218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393AD-9ECF-4488-BC8A-D17E254D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015B1-186B-4B06-AAA1-E2A0DEF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57C44-3E44-46C7-9B95-05AB794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82FC0-007B-4161-975D-02D4D01B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1956C-A463-4BE9-B46A-3BCC8B1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FE83D-0085-47E6-9CC4-F914BBA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8D139-7A16-43B5-9990-0766BA5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919-ED02-4514-A538-6DF80C74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8D5D8-763F-4FBD-B849-2C539C16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184B7-C1C9-4E4D-83AD-2316629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FE0D7-F40B-4014-A931-B0FACCD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31E2A-BC79-4A93-A974-DEEC9FE1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78CBB-F932-4CC0-849E-43432BC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7B011-E68C-4ED3-8733-1C1E4A8F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B8C6F-07A0-46DA-B030-875F174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76B0D-0706-4315-959E-E6BBD7B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4941F-CF36-45DF-B29A-0E15B52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E6E00-5720-4B86-8965-938258D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69C-76E5-4A11-BE61-864DA8C1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C6D94-8EDF-4B1E-A083-07D7FE9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FA148-D8B9-43DE-8A47-D54F36D2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B0753-4F73-4B16-8F30-6FA11A65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230C7-D883-4153-B5C6-63FAD68E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A954C-DACC-4C87-B269-B3F5D77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B5D2F-1C69-4326-A830-FC438986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B03E9-A391-4561-9C0A-A46707B4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FB349-34AC-4052-A3CF-071C8F1F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E6C95-68E8-45BD-A483-9EBA655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C21FD-137D-4E32-ADA2-F142845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68A-6796-406E-B5A9-5B4F206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ADEB1-6F02-48F8-A3B3-02E790B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83CC7-2EBA-4440-B79D-46463F2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3AEB7-EA31-4426-8BF6-F841410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02A58-6185-4B9D-81FC-D232E5C8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70FAE-49BC-4F67-A4E6-E39B56F5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97170-0B41-4C87-8D78-DB5967C2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F204B-EEBB-4E0A-AD19-B806A2A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0E950-4EAC-46D6-8FAE-325127F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0E09F0-5A22-4913-80D0-F510CAAB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7287C4-332F-4365-8465-728AD37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6FB-CA69-49EE-A6DF-B447705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56B77-44D8-450D-A040-D565966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53EB8-F44A-464A-9170-6D0041F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D2C72-AFC5-4501-B322-D666356E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09981-B51C-4CCC-B6C0-C2DF640B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8D013-31D4-4115-BC35-25E2D96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B6968-D944-4E54-BC3E-C71B1D72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9CC87-9E04-44AC-BDE8-275DEE4C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2D604-8997-4210-BEA8-E777F558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2AA5C-25CE-4447-8F57-A395DA77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9959F-B4B7-4262-9D71-17015EF4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3F9-BA25-481E-A966-6CE68592C396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688-4B11-41CA-8B28-36DF847BB1EE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9CFB-F51C-4F2E-A82D-0AE89B47349D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358B-5DFC-42F4-B7F4-C1A975C7AB40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B4F9-9FBF-4D61-978E-E7A34046168C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FDC-0882-45BA-9507-313C303BD2DE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8A66-73C9-42EA-9B39-898739C4094E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0C1C-BC29-4051-A201-152274039158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334A-35E0-4540-A997-AF2B277A5E40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F36E-009F-4F65-8016-43D05607A5E3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6435-864E-49D5-8B36-F5361D8B277A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DA8-93B4-44E0-85E8-B768762B0F37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52440" y="2895480"/>
            <a:ext cx="45720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31840" y="19080"/>
            <a:ext cx="8680320" cy="2668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Refers to couples or individuals who freely choose to remain childlessnes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Stereotyp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Social demographer Fran Baum categorized women who has chosen not to have children into 4 categori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Voluntary Childlessnes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Corbel"/>
              </a:rPr>
              <a:t>Hedonis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who choose to remain childlessness to preserve their standard of living and who are unwilling to invest either their time or money in raising childr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97760" y="4033800"/>
            <a:ext cx="2036880" cy="2714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0" y="4635360"/>
            <a:ext cx="20480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Corbel"/>
              </a:rPr>
              <a:t>Emotion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rbel"/>
              </a:rPr>
              <a:t>Women who do not have an emotional draw toward babies or childr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0" y="3213000"/>
            <a:ext cx="3348000" cy="3645000"/>
          </a:xfrm>
          <a:prstGeom prst="rect">
            <a:avLst/>
          </a:prstGeom>
          <a:ln w="0">
            <a:noFill/>
          </a:ln>
        </p:spPr>
      </p:pic>
      <p:sp>
        <p:nvSpPr>
          <p:cNvPr id="522" name="&quot;No&quot; Symbol 3"/>
          <p:cNvSpPr/>
          <p:nvPr/>
        </p:nvSpPr>
        <p:spPr>
          <a:xfrm>
            <a:off x="5148360" y="3681360"/>
            <a:ext cx="3348000" cy="2700360"/>
          </a:xfrm>
          <a:custGeom>
            <a:avLst/>
            <a:gdLst/>
            <a:ahLst/>
            <a:rect l="l" t="t" r="r" b="b"/>
            <a:pathLst>
              <a:path w="3347864" h="2700000">
                <a:moveTo>
                  <a:pt x="0" y="1350000"/>
                </a:moveTo>
                <a:cubicBezTo>
                  <a:pt x="0" y="604416"/>
                  <a:pt x="749445" y="0"/>
                  <a:pt x="1673932" y="0"/>
                </a:cubicBezTo>
                <a:cubicBezTo>
                  <a:pt x="2598419" y="0"/>
                  <a:pt x="3347864" y="604416"/>
                  <a:pt x="3347864" y="1350000"/>
                </a:cubicBezTo>
                <a:cubicBezTo>
                  <a:pt x="3347864" y="2095584"/>
                  <a:pt x="2598419" y="2700000"/>
                  <a:pt x="1673932" y="2700000"/>
                </a:cubicBezTo>
                <a:cubicBezTo>
                  <a:pt x="749445" y="2700000"/>
                  <a:pt x="0" y="2095584"/>
                  <a:pt x="0" y="1350000"/>
                </a:cubicBezTo>
                <a:close/>
                <a:moveTo>
                  <a:pt x="2659051" y="1802999"/>
                </a:moveTo>
                <a:cubicBezTo>
                  <a:pt x="3014899" y="1398950"/>
                  <a:pt x="2834511" y="862141"/>
                  <a:pt x="2261857" y="621002"/>
                </a:cubicBezTo>
                <a:cubicBezTo>
                  <a:pt x="1909376" y="472576"/>
                  <a:pt x="1475248" y="467841"/>
                  <a:pt x="1116727" y="608511"/>
                </a:cubicBezTo>
                <a:lnTo>
                  <a:pt x="2659051" y="1802999"/>
                </a:lnTo>
                <a:close/>
                <a:moveTo>
                  <a:pt x="688813" y="897001"/>
                </a:moveTo>
                <a:cubicBezTo>
                  <a:pt x="332965" y="1301050"/>
                  <a:pt x="513353" y="1837859"/>
                  <a:pt x="1086007" y="2078998"/>
                </a:cubicBezTo>
                <a:cubicBezTo>
                  <a:pt x="1438488" y="2227424"/>
                  <a:pt x="1872616" y="2232159"/>
                  <a:pt x="2231137" y="2091489"/>
                </a:cubicBezTo>
                <a:lnTo>
                  <a:pt x="688813" y="897001"/>
                </a:lnTo>
                <a:close/>
              </a:path>
            </a:pathLst>
          </a:custGeom>
          <a:solidFill>
            <a:srgbClr val="4a5a7a"/>
          </a:solidFill>
          <a:ln w="324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3981600" y="3357720"/>
            <a:ext cx="5130720" cy="3500280"/>
          </a:xfrm>
          <a:prstGeom prst="rect">
            <a:avLst/>
          </a:prstGeom>
          <a:ln w="0">
            <a:noFill/>
          </a:ln>
        </p:spPr>
      </p:pic>
      <p:sp>
        <p:nvSpPr>
          <p:cNvPr id="524" name="&quot;No&quot; Symbol 4"/>
          <p:cNvSpPr/>
          <p:nvPr/>
        </p:nvSpPr>
        <p:spPr>
          <a:xfrm>
            <a:off x="4427640" y="3789360"/>
            <a:ext cx="4248000" cy="2592360"/>
          </a:xfrm>
          <a:custGeom>
            <a:avLst/>
            <a:gdLst/>
            <a:ahLst/>
            <a:rect l="l" t="t" r="r" b="b"/>
            <a:pathLst>
              <a:path w="4248472" h="2592287">
                <a:moveTo>
                  <a:pt x="0" y="1296144"/>
                </a:moveTo>
                <a:cubicBezTo>
                  <a:pt x="0" y="580303"/>
                  <a:pt x="951053" y="0"/>
                  <a:pt x="2124236" y="0"/>
                </a:cubicBezTo>
                <a:cubicBezTo>
                  <a:pt x="3297419" y="0"/>
                  <a:pt x="4248472" y="580303"/>
                  <a:pt x="4248472" y="1296144"/>
                </a:cubicBezTo>
                <a:cubicBezTo>
                  <a:pt x="4248472" y="2011985"/>
                  <a:pt x="3297419" y="2592288"/>
                  <a:pt x="2124236" y="2592288"/>
                </a:cubicBezTo>
                <a:cubicBezTo>
                  <a:pt x="951053" y="2592288"/>
                  <a:pt x="0" y="2011985"/>
                  <a:pt x="0" y="1296144"/>
                </a:cubicBezTo>
                <a:close/>
                <a:moveTo>
                  <a:pt x="3443125" y="1776647"/>
                </a:moveTo>
                <a:cubicBezTo>
                  <a:pt x="4114622" y="1325936"/>
                  <a:pt x="3681283" y="682304"/>
                  <a:pt x="2597456" y="520588"/>
                </a:cubicBezTo>
                <a:cubicBezTo>
                  <a:pt x="2182222" y="458632"/>
                  <a:pt x="1734249" y="480633"/>
                  <a:pt x="1351771" y="581769"/>
                </a:cubicBezTo>
                <a:lnTo>
                  <a:pt x="3443125" y="1776647"/>
                </a:lnTo>
                <a:close/>
                <a:moveTo>
                  <a:pt x="805347" y="815640"/>
                </a:moveTo>
                <a:cubicBezTo>
                  <a:pt x="133850" y="1266351"/>
                  <a:pt x="567189" y="1909983"/>
                  <a:pt x="1651016" y="2071699"/>
                </a:cubicBezTo>
                <a:cubicBezTo>
                  <a:pt x="2066250" y="2133655"/>
                  <a:pt x="2514223" y="2111654"/>
                  <a:pt x="2896701" y="2010518"/>
                </a:cubicBezTo>
                <a:lnTo>
                  <a:pt x="805347" y="815640"/>
                </a:lnTo>
                <a:close/>
              </a:path>
            </a:pathLst>
          </a:custGeom>
          <a:solidFill>
            <a:srgbClr val="f7bd40"/>
          </a:solidFill>
          <a:ln w="3240">
            <a:solidFill>
              <a:srgbClr val="4a5a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Corbel"/>
              </a:rPr>
              <a:t>Idealistic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who do not want to bring a child into the world they feel is unsuitabl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0" y="419400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4427640" y="4194000"/>
            <a:ext cx="47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Corbel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who have a practical reason for not having children, such as no wanting to pass on a genetic defect to their chil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have to deal with cultural attitudes that imply that they are somehow abnormal or less of a woman if they do not have childr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Men are still largely defined by their occupation, not their parental statu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3:15:29Z</dcterms:created>
  <dc:creator>Jason</dc:creator>
  <dc:description/>
  <dc:language>en-US</dc:language>
  <cp:lastModifiedBy>Jason</cp:lastModifiedBy>
  <dcterms:modified xsi:type="dcterms:W3CDTF">2011-01-05T14:01:04Z</dcterms:modified>
  <cp:revision>4</cp:revision>
  <dc:subject/>
  <dc:title>6.5 Voluntary Childlessness</dc:title>
</cp:coreProperties>
</file>